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94960" y="746280"/>
            <a:ext cx="497052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83520" rIns="83520" tIns="41760" bIns="417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A2EF-BC28-4F5C-89CE-BD7BDDA72CC3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520" rIns="83520" tIns="41760" bIns="417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5771-2F7B-4DBD-8C37-C89F4C049F5C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5714-2A0B-4FF8-8923-0C4B460DE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822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404600"/>
            <a:ext cx="822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570D-F69B-4DC9-92C6-30D6CF66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668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7DAD-A16B-4A8D-BF52-74695A055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080" y="263664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4520" y="263664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40460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080" y="440460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4520" y="4404600"/>
            <a:ext cx="264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F334-FA1E-4B4E-B42C-2FCD2C4BA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E258-D141-4938-859A-A0C2C33E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5DBC-F872-4C3C-8EDA-8AC38861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36BD-7693-4FB7-A92C-E5788789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538A-B147-43E5-AA8D-E744024E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9640" y="1339560"/>
            <a:ext cx="82296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6ECC-D916-41A7-A434-CC3D0C68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9696-624F-4ECD-AF04-A32D1D4B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6680" y="440460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0345-E451-4405-932B-1650C8E9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680" y="2636640"/>
            <a:ext cx="40158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404600"/>
            <a:ext cx="822960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0362-413A-4AB8-84EE-9B96AC30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6"/>
          <p:cNvPicPr/>
          <p:nvPr/>
        </p:nvPicPr>
        <p:blipFill>
          <a:blip r:embed="rId2"/>
          <a:srcRect l="0" t="0" r="0" b="-295"/>
          <a:stretch/>
        </p:blipFill>
        <p:spPr>
          <a:xfrm>
            <a:off x="0" y="-68400"/>
            <a:ext cx="9144000" cy="6716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640" y="1339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B3F3-5E47-42A8-82A5-B5ED675035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F:\美工素材\校徽标志\校徽组成图.png"/>
          <p:cNvPicPr/>
          <p:nvPr/>
        </p:nvPicPr>
        <p:blipFill>
          <a:blip r:embed="rId1"/>
          <a:stretch/>
        </p:blipFill>
        <p:spPr>
          <a:xfrm>
            <a:off x="0" y="4529160"/>
            <a:ext cx="9144000" cy="1542960"/>
          </a:xfrm>
          <a:prstGeom prst="rect">
            <a:avLst/>
          </a:prstGeom>
          <a:ln w="0">
            <a:noFill/>
          </a:ln>
        </p:spPr>
      </p:pic>
      <p:sp>
        <p:nvSpPr>
          <p:cNvPr id="50" name="矩形 6"/>
          <p:cNvSpPr/>
          <p:nvPr/>
        </p:nvSpPr>
        <p:spPr>
          <a:xfrm>
            <a:off x="1332000" y="2782800"/>
            <a:ext cx="753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课程名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参赛教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微软雅黑"/>
                <a:ea typeface="微软雅黑"/>
              </a:rPr>
              <a:t>学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矩形 5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1895400"/>
          </a:xfrm>
          <a:prstGeom prst="rect">
            <a:avLst/>
          </a:prstGeom>
          <a:ln w="0">
            <a:noFill/>
          </a:ln>
        </p:spPr>
      </p:pic>
      <p:sp>
        <p:nvSpPr>
          <p:cNvPr id="52" name="矩形 6"/>
          <p:cNvSpPr/>
          <p:nvPr/>
        </p:nvSpPr>
        <p:spPr>
          <a:xfrm>
            <a:off x="9360" y="5732640"/>
            <a:ext cx="9144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  <a:ea typeface="微软雅黑"/>
              </a:rPr>
              <a:t>2015</a:t>
            </a:r>
            <a:r>
              <a:rPr b="1" lang="zh-CN" sz="2800" spc="-1" strike="noStrike">
                <a:solidFill>
                  <a:srgbClr val="002060"/>
                </a:solidFill>
                <a:latin typeface="Calibri"/>
                <a:ea typeface="微软雅黑"/>
              </a:rPr>
              <a:t>年    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7T08:58:37Z</dcterms:created>
  <dc:creator>sewjtu-gao</dc:creator>
  <dc:description/>
  <dc:language>en-US</dc:language>
  <cp:lastModifiedBy>admin</cp:lastModifiedBy>
  <cp:lastPrinted>1899-12-30T00:00:00Z</cp:lastPrinted>
  <dcterms:modified xsi:type="dcterms:W3CDTF">2015-06-09T06:16:00Z</dcterms:modified>
  <cp:revision>47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